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A48-E7C6-4B2B-8FB5-52B80BCE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750-A9E7-4E99-865C-94E34E46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666-524A-4974-98E5-A01F04B0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99C-369C-4146-B4D7-F9A66094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EB1-C255-4D2F-9BD4-AFD842F9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B27-F717-42BC-A1C6-18944DCE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4AE-46FA-4CF4-8D6E-6E1062B2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6C8-CB6A-4787-B07C-2A513C46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5A5-A832-40C0-AFA9-5C45393C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802-A784-4B15-886D-6A74C3F7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1876-B741-4CF9-BE12-2D9F4C5C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0E8-4E6A-446D-8027-0D161314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F47D-0520-456E-BC92-43FCC02356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62320" y="205740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99"/>
                </a:solidFill>
                <a:latin typeface="宋体"/>
              </a:rPr>
              <a:t>真实的高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4648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引领者：翁垟第一小学   陈金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05320" y="2819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露声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2971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2193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面对一张张冷酷无情的退稿笺，小仲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没有沮丧，仍然不露声色地坚持创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22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你能在寄稿时，随稿给编辑先生们附上一封短信，或者只是一句话，说‘我是大仲马的儿子’，或许情况就会好多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轻的小仲马不但拒绝以父亲的盛名做自己事业的敲门砖，而且不露声色地给自己取了十几个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笔名，以避免那些编辑先生们把他和大名鼎鼎的父亲联系起来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505320"/>
            <a:ext cx="7864560" cy="12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，我不想坐在您的肩头上摘苹果，那样摘来的苹果没味道。”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97160" y="2057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敲门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489040"/>
            <a:ext cx="9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笔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5562720"/>
            <a:ext cx="63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  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我只想拥有真实的高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轻的小仲马不但拒绝以父亲的盛名做自己事业的敲门砖，而且不露声色地给自己取了十几个笔名，以避免那些编辑先生们把他和大名鼎鼎的父亲联系起来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如果你能在寄稿时，随稿给编辑先生们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一封短信，或者只是一句话，说‘我是大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马的儿子’，或许情况就会好多了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800600"/>
            <a:ext cx="7864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，我不想坐在您的肩头上摘苹果，那样摘来的苹果没味道。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5637240"/>
            <a:ext cx="733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只想拥有真实的高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-31428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807732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资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1852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年，五幕剧《茶花女》上演时，剧场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满，万人空巷，获得了更大的成功。小仲马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这个喜讯告诉远在比利时的父亲时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电报上写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第一天上演时的盛况，足以令人误以为是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作品。”父亲立即回电，那大仲马会说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724280"/>
            <a:ext cx="71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最好的作品正是你，儿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-31428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晋朝书法家父子：王羲之   王献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北宋文学家父子</a:t>
            </a: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: </a:t>
            </a: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苏  洵   苏轼   苏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波兰科学家母女：居里夫人   伊雷娜•居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美国总统：老布什     小布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奥地利音乐家父子：大施特劳斯   小施特劳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00200" y="609480"/>
            <a:ext cx="285768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认识名人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534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许在父亲的帮助下，小仲马也可以顺利通往成功之路。学完课文，你是赞成小仲马依靠父亲的帮助还是自己的努力？写下你赞成或反对的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改写课文：如果一开始小仲马借助父亲的盛名，轻而易举地出名了，结果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面对小仲马的艰难历程，你有什么感言？联系自己的实际情况，说说小仲马的行为对你有什么启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65760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6668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拓展训练：（自由选择一题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8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123120"/>
            <a:ext cx="2743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6000" y="2286000"/>
            <a:ext cx="4629240" cy="23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再见！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91440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00400" y="1447920"/>
            <a:ext cx="4648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057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9966ff"/>
                </a:solidFill>
                <a:latin typeface="Arial"/>
              </a:rPr>
              <a:t>小仲马在稿子总是（       ）的情况下，拒绝了父亲的帮助。面对一张张（          ），他没有（       ），依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ff"/>
                </a:solidFill>
                <a:latin typeface="Arial"/>
              </a:rPr>
              <a:t>（           ）地创作。最后，《茶花女》这部作品让他（            ），人们对他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2133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碰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32004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退稿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j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276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j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733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露声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4267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举成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800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叹不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380880"/>
            <a:ext cx="48675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填词语，说内容。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19735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大仲马</a:t>
            </a:r>
            <a:r>
              <a:rPr b="0" lang="zh-CN" sz="3200" spc="-1" strike="noStrike" u="sng">
                <a:solidFill>
                  <a:srgbClr val="0099cc"/>
                </a:solidFill>
                <a:uFillTx/>
                <a:latin typeface="宋体"/>
              </a:rPr>
              <a:t>名气很大</a:t>
            </a: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（        ），他的作品</a:t>
            </a:r>
            <a:r>
              <a:rPr b="0" lang="zh-CN" sz="3200" spc="-1" strike="noStrike" u="sng">
                <a:solidFill>
                  <a:srgbClr val="0099cc"/>
                </a:solidFill>
                <a:uFillTx/>
                <a:latin typeface="宋体"/>
              </a:rPr>
              <a:t>流传非常广</a:t>
            </a: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大仲马的儿子小仲马刚开始</a:t>
            </a:r>
            <a:r>
              <a:rPr b="0" lang="zh-CN" sz="3200" spc="-1" strike="noStrike" u="sng">
                <a:solidFill>
                  <a:srgbClr val="0099cc"/>
                </a:solidFill>
                <a:uFillTx/>
                <a:latin typeface="宋体"/>
              </a:rPr>
              <a:t>一点也没有名气</a:t>
            </a: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（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他的作品自然总是</a:t>
            </a:r>
            <a:r>
              <a:rPr b="0" lang="zh-CN" sz="3200" spc="-1" strike="noStrike" u="sng">
                <a:solidFill>
                  <a:srgbClr val="0099cc"/>
                </a:solidFill>
                <a:uFillTx/>
                <a:latin typeface="宋体"/>
              </a:rPr>
              <a:t>遭到拒绝</a:t>
            </a: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(         )</a:t>
            </a: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他们的名气和地位相差得很远，</a:t>
            </a:r>
            <a:r>
              <a:rPr b="0" lang="zh-CN" sz="3200" spc="-1" strike="noStrike" u="sng">
                <a:solidFill>
                  <a:srgbClr val="0099cc"/>
                </a:solidFill>
                <a:uFillTx/>
                <a:latin typeface="宋体"/>
              </a:rPr>
              <a:t>完全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（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19810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广为流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名不见经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5053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碰     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jiǒn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然不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447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名鼎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3352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会吗？看意思写词语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31428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1848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年，小说《茶花女》问世了，使小仲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一举成名。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1952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年，《茶花女》又被改编成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名话剧，演出获得更大的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657600"/>
            <a:ext cx="815364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资料：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小仲马后来写了 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余部剧作。其中有《半上流社会》《金钱问题》、《私生子》、《放荡的父亲》、《欧勃雷夫人的见解》、《阿尔丰斯先生》、《福朗西雍》等。小仲马成为法国现实主义戏剧的先驱者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05320" y="2819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露声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2971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193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面对一张张冷酷无情的退稿笺，小仲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没有沮丧，仍然不露声色地坚持创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22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71629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81080" y="175248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张张冷酷无情的退稿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2514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您的散文主题思想不正，予以退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429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您的小说构思太过普通，予以退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441972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您的文章文笔过于稚嫩，予以退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45720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05320" y="2819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露声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2971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193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面对一张张冷酷无情的退稿笺，小仲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没有沮丧，仍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不露声色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地坚持创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22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05320" y="2819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露声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2971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面对一张张冷酷无情的退稿笺，小仲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没有沮丧，仍然不露声色地坚持创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22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7920" y="3276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坚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2960" y="3289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没有沮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31428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38480" y="365760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1629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66680" y="1066680"/>
            <a:ext cx="66294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面对一张张退稿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夜深人静的夜晚，小仲马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烈日炎炎的夏日里，小仲马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大雪纷飞的寒冬中，小仲马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朋友邀请外出游玩的日子，小仲马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--- 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7057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</cp:lastModifiedBy>
  <dcterms:modified xsi:type="dcterms:W3CDTF">2012-11-19T14:41:30Z</dcterms:modified>
  <cp:revision>2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